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-360" y="-11984040"/>
            <a:ext cx="360" cy="253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1"/>
          <p:cNvSpPr/>
          <p:nvPr/>
        </p:nvSpPr>
        <p:spPr>
          <a:xfrm>
            <a:off x="0" y="-11984040"/>
            <a:ext cx="1440" cy="2535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1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0FBB44-2463-402D-A487-91AF34880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90000"/>
            <a:ext cx="822492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2249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6840" y="4192200"/>
            <a:ext cx="82249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E0333C-1660-4CB0-BB76-3CAC6A364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6840" y="90000"/>
            <a:ext cx="822492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13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1720" y="1980720"/>
            <a:ext cx="4013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6840" y="4192200"/>
            <a:ext cx="4013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1720" y="4192200"/>
            <a:ext cx="4013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4B70BF-21F2-40C9-B4BC-D1987D7E9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90000"/>
            <a:ext cx="822492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264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7840" y="1980720"/>
            <a:ext cx="264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18840" y="1980720"/>
            <a:ext cx="264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6840" y="4192200"/>
            <a:ext cx="264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7840" y="4192200"/>
            <a:ext cx="264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18840" y="4192200"/>
            <a:ext cx="264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7B3647-559C-4348-8A06-AC6FB1A17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59D4A-17E6-4DB7-BA28-EA1DA34CC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90000"/>
            <a:ext cx="822492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6840" y="1980720"/>
            <a:ext cx="822492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261D0-9697-4EDB-9A5A-2CE5CDD05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90000"/>
            <a:ext cx="822492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22492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32742-570D-4D90-881F-126BBC1F7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90000"/>
            <a:ext cx="822492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1364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720" y="1980720"/>
            <a:ext cx="401364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EAD3D-9799-4789-ACD8-62A4B49A0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90000"/>
            <a:ext cx="822492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9C68F-6063-423F-AD40-62DAA059A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6840" y="90000"/>
            <a:ext cx="8224920" cy="974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7CBB3-8367-4A3D-B810-2A8118AFE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90000"/>
            <a:ext cx="822492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13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720" y="1980720"/>
            <a:ext cx="401364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6840" y="4192200"/>
            <a:ext cx="4013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18CF3-D325-4E28-9F19-F474376C2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90000"/>
            <a:ext cx="822492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6840" y="1980720"/>
            <a:ext cx="822492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40F358-AE32-4786-9FBA-7C1C9C3BA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90000"/>
            <a:ext cx="822492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1364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720" y="1980720"/>
            <a:ext cx="4013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720" y="4192200"/>
            <a:ext cx="4013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464BA-488F-49E1-9AAA-A56FA7C9C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90000"/>
            <a:ext cx="822492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13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720" y="1980720"/>
            <a:ext cx="4013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6840" y="4192200"/>
            <a:ext cx="82249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11EF1-7C24-4024-9166-9E27F62EE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90000"/>
            <a:ext cx="822492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2249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6840" y="4192200"/>
            <a:ext cx="82249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5E539-D70B-453C-92ED-D344E7DD9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90000"/>
            <a:ext cx="822492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13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720" y="1980720"/>
            <a:ext cx="4013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6840" y="4192200"/>
            <a:ext cx="4013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720" y="4192200"/>
            <a:ext cx="4013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ACC65-BF3A-4397-A1F2-CA4BAFA35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90000"/>
            <a:ext cx="822492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264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7840" y="1980720"/>
            <a:ext cx="264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840" y="1980720"/>
            <a:ext cx="264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6840" y="4192200"/>
            <a:ext cx="264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7840" y="4192200"/>
            <a:ext cx="264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840" y="4192200"/>
            <a:ext cx="264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EF506-B030-48D6-9E2C-1682366C3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90000"/>
            <a:ext cx="822492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22492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1D1C8F-6D04-4DDA-A774-4C5BE20E7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90000"/>
            <a:ext cx="822492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1364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1720" y="1980720"/>
            <a:ext cx="401364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B7E77B-7E55-4530-B91B-7A4585AA3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90000"/>
            <a:ext cx="822492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C4A2C7-6C96-46BC-8BB9-61609B741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6840" y="90000"/>
            <a:ext cx="8224920" cy="974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2C0884-76E2-446F-8223-4705E8610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90000"/>
            <a:ext cx="822492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13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1720" y="1980720"/>
            <a:ext cx="401364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2200"/>
            <a:ext cx="4013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20BF57-93D2-4809-8A12-A7E2A3CBB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90000"/>
            <a:ext cx="822492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1364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1720" y="1980720"/>
            <a:ext cx="4013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1720" y="4192200"/>
            <a:ext cx="4013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D7230D-7C2D-446F-A4A1-905794C68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90000"/>
            <a:ext cx="822492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13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1720" y="1980720"/>
            <a:ext cx="4013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6840" y="4192200"/>
            <a:ext cx="82249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BBA493-A07C-4EBE-8329-3D65B9E41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080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212904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3416CE9-4297-4A74-9591-37365A0436C2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3"/>
          <p:cNvGrpSpPr/>
          <p:nvPr/>
        </p:nvGrpSpPr>
        <p:grpSpPr>
          <a:xfrm>
            <a:off x="0" y="0"/>
            <a:ext cx="9142200" cy="544680"/>
            <a:chOff x="0" y="0"/>
            <a:chExt cx="9142200" cy="544680"/>
          </a:xfrm>
        </p:grpSpPr>
        <p:sp>
          <p:nvSpPr>
            <p:cNvPr id="3" name="Rectangle 4"/>
            <p:cNvSpPr/>
            <p:nvPr/>
          </p:nvSpPr>
          <p:spPr>
            <a:xfrm>
              <a:off x="0" y="0"/>
              <a:ext cx="285480" cy="532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5"/>
            <p:cNvSpPr/>
            <p:nvPr/>
          </p:nvSpPr>
          <p:spPr>
            <a:xfrm>
              <a:off x="412560" y="134640"/>
              <a:ext cx="8729640" cy="273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6"/>
            <p:cNvSpPr/>
            <p:nvPr/>
          </p:nvSpPr>
          <p:spPr>
            <a:xfrm>
              <a:off x="409320" y="134640"/>
              <a:ext cx="137520" cy="14040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7"/>
            <p:cNvSpPr/>
            <p:nvPr/>
          </p:nvSpPr>
          <p:spPr>
            <a:xfrm>
              <a:off x="547200" y="0"/>
              <a:ext cx="139320" cy="1375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8"/>
            <p:cNvSpPr/>
            <p:nvPr/>
          </p:nvSpPr>
          <p:spPr>
            <a:xfrm>
              <a:off x="547200" y="134640"/>
              <a:ext cx="139320" cy="1404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9"/>
            <p:cNvSpPr/>
            <p:nvPr/>
          </p:nvSpPr>
          <p:spPr>
            <a:xfrm>
              <a:off x="274320" y="273600"/>
              <a:ext cx="136080" cy="1375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0"/>
            <p:cNvSpPr/>
            <p:nvPr/>
          </p:nvSpPr>
          <p:spPr>
            <a:xfrm>
              <a:off x="131400" y="136080"/>
              <a:ext cx="140760" cy="1375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1"/>
            <p:cNvSpPr/>
            <p:nvPr/>
          </p:nvSpPr>
          <p:spPr>
            <a:xfrm>
              <a:off x="409320" y="270720"/>
              <a:ext cx="137520" cy="1375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2"/>
            <p:cNvSpPr/>
            <p:nvPr/>
          </p:nvSpPr>
          <p:spPr>
            <a:xfrm>
              <a:off x="274320" y="408600"/>
              <a:ext cx="136080" cy="13608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6840" y="90000"/>
            <a:ext cx="822492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6840" y="1980720"/>
            <a:ext cx="822492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93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93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9999cc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1"/>
          <p:cNvGrpSpPr/>
          <p:nvPr/>
        </p:nvGrpSpPr>
        <p:grpSpPr>
          <a:xfrm>
            <a:off x="0" y="0"/>
            <a:ext cx="9142200" cy="6856560"/>
            <a:chOff x="0" y="0"/>
            <a:chExt cx="9142200" cy="6856560"/>
          </a:xfrm>
        </p:grpSpPr>
        <p:sp>
          <p:nvSpPr>
            <p:cNvPr id="52" name="Rectangle 2"/>
            <p:cNvSpPr/>
            <p:nvPr/>
          </p:nvSpPr>
          <p:spPr>
            <a:xfrm>
              <a:off x="0" y="0"/>
              <a:ext cx="350460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715760" y="1690200"/>
              <a:ext cx="7426440" cy="253296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4" name="Group 4"/>
            <p:cNvGrpSpPr/>
            <p:nvPr/>
          </p:nvGrpSpPr>
          <p:grpSpPr>
            <a:xfrm>
              <a:off x="0" y="1066320"/>
              <a:ext cx="2864520" cy="3155040"/>
              <a:chOff x="0" y="1066320"/>
              <a:chExt cx="2864520" cy="3155040"/>
            </a:xfrm>
          </p:grpSpPr>
          <p:sp>
            <p:nvSpPr>
              <p:cNvPr id="55" name="Rectangle 5"/>
              <p:cNvSpPr/>
              <p:nvPr/>
            </p:nvSpPr>
            <p:spPr>
              <a:xfrm>
                <a:off x="572400" y="3580920"/>
                <a:ext cx="575640" cy="6404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Rectangle 6"/>
              <p:cNvSpPr/>
              <p:nvPr/>
            </p:nvSpPr>
            <p:spPr>
              <a:xfrm>
                <a:off x="1714680" y="1689480"/>
                <a:ext cx="573840" cy="642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Rectangle 7"/>
              <p:cNvSpPr/>
              <p:nvPr/>
            </p:nvSpPr>
            <p:spPr>
              <a:xfrm>
                <a:off x="2279520" y="1066320"/>
                <a:ext cx="585000" cy="6343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Rectangle 8"/>
              <p:cNvSpPr/>
              <p:nvPr/>
            </p:nvSpPr>
            <p:spPr>
              <a:xfrm>
                <a:off x="1140480" y="3580920"/>
                <a:ext cx="583200" cy="6404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Rectangle 9"/>
              <p:cNvSpPr/>
              <p:nvPr/>
            </p:nvSpPr>
            <p:spPr>
              <a:xfrm>
                <a:off x="2279520" y="1689480"/>
                <a:ext cx="585000" cy="642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Rectangle 10"/>
              <p:cNvSpPr/>
              <p:nvPr/>
            </p:nvSpPr>
            <p:spPr>
              <a:xfrm>
                <a:off x="1140480" y="2322720"/>
                <a:ext cx="583200" cy="6325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Rectangle 11"/>
              <p:cNvSpPr/>
              <p:nvPr/>
            </p:nvSpPr>
            <p:spPr>
              <a:xfrm>
                <a:off x="0" y="2322720"/>
                <a:ext cx="581760" cy="6325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Rectangle 12"/>
              <p:cNvSpPr/>
              <p:nvPr/>
            </p:nvSpPr>
            <p:spPr>
              <a:xfrm>
                <a:off x="1714680" y="2322720"/>
                <a:ext cx="573840" cy="6325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Rectangle 13"/>
              <p:cNvSpPr/>
              <p:nvPr/>
            </p:nvSpPr>
            <p:spPr>
              <a:xfrm>
                <a:off x="572400" y="2946240"/>
                <a:ext cx="575640" cy="64368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Rectangle 14"/>
              <p:cNvSpPr/>
              <p:nvPr/>
            </p:nvSpPr>
            <p:spPr>
              <a:xfrm>
                <a:off x="1140480" y="2946240"/>
                <a:ext cx="583200" cy="64368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2868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080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12904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01D40DE-655E-4C41-BC1F-4FED943313DF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4880" cy="22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lnSpc>
                <a:spcPct val="93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93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9999cc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852640" y="1631520"/>
            <a:ext cx="6291360" cy="27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Основные направления работы педагогического коллектива ДОУ, реализующего инклюзивную практику</a:t>
            </a:r>
            <a:r>
              <a:rPr b="0" lang="en-GB" sz="4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2916000" y="4797000"/>
            <a:ext cx="601956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Ежова Н.Ю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учитель - дефектолог ЦПМС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4920" y="475920"/>
            <a:ext cx="82249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едельная наполняемость в группах комбинированной направлен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822492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27600" indent="0">
              <a:lnSpc>
                <a:spcPct val="7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7600" indent="-327600">
              <a:lnSpc>
                <a:spcPct val="73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 3 л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7600" indent="-327600">
              <a:lnSpc>
                <a:spcPct val="73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0 детей, в том числе не более 3 детей с ограниченными возможностями здоровь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7600" indent="-327600">
              <a:lnSpc>
                <a:spcPct val="73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арше 3 ле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7600" indent="-327600">
              <a:lnSpc>
                <a:spcPct val="73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0 детей, в том числе не более 3 глухих детей, или слепых детей, и детей с нарушениями опорно-двигательного аппарата, или детей  с умственной отсталостью — умеренной, тяжелой, или детей со сложным дефекто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7600" indent="-327600">
              <a:lnSpc>
                <a:spcPct val="73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5 детей, в том числе не более 4 слабовидящих и (или) детей с амблиопией и косоглазием, или слабослышащих детей, или детей, имеющих тяжелые нарушения речи, или детей с умственной отсталостью легкой степен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7600" indent="-327600">
              <a:lnSpc>
                <a:spcPct val="73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7 детей, в том числе не более 5 детей с задержкой психического развит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7600" indent="0">
              <a:lnSpc>
                <a:spcPct val="7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7600" indent="0" algn="r">
              <a:lnSpc>
                <a:spcPct val="7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становление Правительства РФ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7600" indent="0" algn="r">
              <a:lnSpc>
                <a:spcPct val="7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 12 сентября 2008 г. N 66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7600" indent="0" algn="r">
              <a:lnSpc>
                <a:spcPct val="7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"Об утверждении Типового положения о дошкольном образовательном учреждении"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691920"/>
            <a:ext cx="82249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сновные направления работы педагогического коллектива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инклюзивной группе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22492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73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агностика индивидуальных особенностей развития каждого ребен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73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плексная оценка ресурсов и дефицитов ребенка для составления индивидуального образовательного маршрута и индивидуальной образовательной программ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73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ланирование образовательного процесса с учетом индивидуальных образовательных потребностей детей групп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73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ганизация совместной жизнедеятельности детей в условиях инклюзивной групп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73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ниторинг инклюзивного образовательного процес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60280"/>
            <a:ext cx="822492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граммы воспитания и обучения детей с ОВ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483920"/>
            <a:ext cx="82249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73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От рождения до школы» под ред. Н.Е. Вераксы, Т. С. Комаровой, М.А. Васильево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73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Детство» под ред. Т. И. Бабаевой, З.А. Михайловской, Л.М. Гурович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73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Программа воспитания и обучения дошкольников с интеллектуальной недостаточностью» Л. Б. Баряевой, О. П. Гаврилушкиной, А. П. Зарина, Н.Д. Соколовой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73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Программу логопедической работы по преодолению фонетико-фонематического недоразвития у детей» Т. Б. Филичевой, Г. В. Чиркиной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73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Программа логопедической работы по преодолению общего недоразвития речи у детей» Т. Б. Филичевой, Г. В. Чиркиной, Т. В. Тумановой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73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грамма М.  Монтессор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73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грамма ранней педагогической помощи детям с отклонениями в развитии «Маленькие ступеньки» и др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10920" y="549360"/>
            <a:ext cx="82249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дачи организации совместной жизнедеятельности детей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инклюзивной групп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9280" y="1988640"/>
            <a:ext cx="82249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4360" indent="-324360">
              <a:lnSpc>
                <a:spcPct val="73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здание общности детей и взрослых, основанной на уважении и интересе к личности каждого члена группы, к его индивидуальным особенностя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360" indent="-324360">
              <a:lnSpc>
                <a:spcPct val="73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ирование умения устанавливать и поддерживать отношения с разными людьми (младшими, сверстниками, старшими, взрослыми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360" indent="-324360">
              <a:lnSpc>
                <a:spcPct val="73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ирование умения поддерживать друг друга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360" indent="-324360">
              <a:lnSpc>
                <a:spcPct val="73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витие коммуникативных навыков и культуры общения, создание позитивного эмоционального настро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360" indent="-324360">
              <a:lnSpc>
                <a:spcPct val="73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ктивизация способностей выбирать, планировать собственную деятельность, договариваться с другими о совместной деятельности, распределять роли и обязан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360" indent="-324360">
              <a:lnSpc>
                <a:spcPct val="73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витие умений и навыков в игровой, познавательной, исследовательской деятель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360" indent="-324360">
              <a:lnSpc>
                <a:spcPct val="73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ирование навыков саморегуляции и самообслуживания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8224920" cy="11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Формы работы в группах, реализующих инклюзивную практику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99920"/>
            <a:ext cx="822492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93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дивидуальные занятия со специалиста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3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рганизация предметно-развивающей сред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3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вместная деятельность в микрогруппах с другими детьм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3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ронтальные занят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3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рганизация взаимодействия в детско-родительских группа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3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аздники, конкурсы, экскурсии, походы выходного дня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475920"/>
            <a:ext cx="822492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инципы организации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едметно-развивающей среды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22492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73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реда должна быть безопасно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73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реда должна быть комфортной и уютно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73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реда организуется в каждой группе в соответствии с возрастными закономерностями развития детей и их интереса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73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реда должна давать возможность проявлять активность, работать как в сотрудничестве, так и самостоятельно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73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вивающая среда группы должна быть вариативно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73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реда должна быть информативно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73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реда должна постоянно обновляться вслед за изменением интересов и образовательных потребностей де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50920" y="549360"/>
            <a:ext cx="86421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lnSpc>
                <a:spcPct val="93000"/>
              </a:lnSpc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казатели эффективности инклюзивного образовательного процес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915920"/>
            <a:ext cx="8224920" cy="48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93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спешность реализации индивидуальных образовательных маршрутов и индивидуальных образовательных маршрутов и индивидуальных образовательных программ для детей с ОВЗ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3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довлетворенность инклюзивным процессом у его участников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3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вышение числа выпускников с ОВЗ, продолживших индивидуально-образовательный маршрут в общеобразовательной или специальной (коррекционной) школе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3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вышение квалификации сотрудников ДО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Структурные подразделения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ДО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Центр игровой поддержки развит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Консультативный пунк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Лекот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Служба ранней помощ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Группа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вития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«Особый ребенок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Инклюзивная группа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9144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Содержание деятельности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консультативного пункта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3628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Цель</a:t>
            </a: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оказание психолого-педагогической помощи родителям (законным представителям), поддержка всестороннего развития личности детей,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не посещающих образовательные учреждения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Направления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 деятельности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оказание помощи родителям и детям 5—6 лет, не посещающим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У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в обеспечении равных стартовых возможностей при поступлении в школ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оказание консультативной помощи родителям по вопросам воспитания, обучения и развития дошкольник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содействие социализации детей дошкольного возраст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проведение комплексной профилактики различных отклонений в физическом, психическом и социальном развитии дете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обеспечение взаимодействия между ДОУ и другими организациями социальной и медицинской поддержки детей и родите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360000"/>
            <a:ext cx="914400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Служба ранней помощ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9640" y="904680"/>
            <a:ext cx="8229600" cy="64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Цель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психолого-педагогическая и социальная поддержка семьи, имеющей ребенка раннего возраста с выявленными нарушениями развития (риском нарушения),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не посещающего образовательное учреждение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коррекция отклонений в развит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держание деятельности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проведение психолого-педагогического обследования детей с нарушениями развития (риском нарушения) и их семе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оказание комплексной коррекционно-развивающей помощи детям с нарушениями развития (риском нарушения) и психолого-педагогической поддержки их семья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осуществление работы по адаптации, социализации и интеграции детей с нарушениями развития (риском нарушения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включение родителей (законных представителей) в процесс воспитания и обучения ребен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определение дальнейшего образовательного маршрута ребенка.</a:t>
            </a:r>
            <a:br>
              <a:rPr sz="2000"/>
            </a:b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Лекот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920" y="843120"/>
            <a:ext cx="8642160" cy="601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Цель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психолого-педагогического сопровождения детей в возрасте от 2 месяцев до 7 лет, </a:t>
            </a:r>
            <a:r>
              <a:rPr b="0" lang="en-GB" sz="1900" spc="-1" strike="noStrike" u="sng">
                <a:solidFill>
                  <a:srgbClr val="000000"/>
                </a:solidFill>
                <a:uFillTx/>
                <a:latin typeface="Arial"/>
              </a:rPr>
              <a:t>которые не могут посещать государственные образовательные учреждения по состоянию здоровья или развития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 для социализации,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формирование предпосылок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 учебной деятельности и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оказание 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психолого-педагогической помощи родителям (законным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представителям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).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Содержание деятельности</a:t>
            </a: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реализация индивидуальной образовательной программы, принимаемой лекотекой самостоятельно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проведение психокоррекции средствами игры у детей с нарушениями развития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обучение родителей, специалистов ГОУ методам игрового взаимодействия с детьми, имеющими нарушения в развитии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проведение психопрофилактической работы с членами семей детей с нарушением развития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психолого-педагогическое обследование детей с нарушениями развития (при наличии согласия родителей)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помощь родителям (законным представителям) в подборе адекватных средств общения с ребенком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подбор индивидуальных техник формирования у детей предпосылок учебной деятельности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50560" y="404640"/>
            <a:ext cx="88930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Ресурсы лекоте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6000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lnSpc>
                <a:spcPct val="9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DejaVu Sans"/>
              </a:rPr>
              <a:t>Игра - основной метод лекотек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DejaVu Sans"/>
              </a:rPr>
              <a:t>Деятельность лекотеки связана с использованием вспомогательных средств, обеспечивающих полноценное вовлечение ребенка с особыми нуждами и окружающих его людей в игровую активность для обучения и развития общения в игр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DejaVu Sans"/>
              </a:rPr>
              <a:t>Вспомоательные средства должны перекрывать все основные потребности ребенка с особыми нуждами, связанные с организацией его игровой деятельн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42920" y="189000"/>
            <a:ext cx="702000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spcBef>
                <a:spcPts val="2475"/>
              </a:spcBef>
              <a:spcAft>
                <a:spcPts val="2475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DejaVu Sans"/>
              </a:rPr>
              <a:t>Материальная база лекоте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14720" cy="54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4440" indent="-334440">
              <a:lnSpc>
                <a:spcPct val="9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специальное оборудование для детей с нарушениями движен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4440" indent="-334440">
              <a:lnSpc>
                <a:spcPct val="9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оборудование для развития общей подвиж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4440" indent="-334440">
              <a:lnSpc>
                <a:spcPct val="9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игрушки для развития ручных навык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4440" indent="-334440">
              <a:lnSpc>
                <a:spcPct val="9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игрушки для развития тактильного восприят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4440" indent="-334440">
              <a:lnSpc>
                <a:spcPct val="9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игрушки и средства для развития зрительного восприят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4440" indent="-334440">
              <a:lnSpc>
                <a:spcPct val="9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игрушки для развития слухового восприят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4440" indent="-334440">
              <a:lnSpc>
                <a:spcPct val="9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игрушки для развития мышл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4440" indent="-334440">
              <a:lnSpc>
                <a:spcPct val="9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игрушки для развития речи и язык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4440" indent="-334440">
              <a:lnSpc>
                <a:spcPct val="9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игрушки для поддержки социально-эмоционального развит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42920" y="1125360"/>
            <a:ext cx="401508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27600" indent="-327600">
              <a:lnSpc>
                <a:spcPct val="9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игрушки для игры с водо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7600" indent="-327600">
              <a:lnSpc>
                <a:spcPct val="9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игрушки для игры с сыпучими материалам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7600" indent="-327600">
              <a:lnSpc>
                <a:spcPct val="9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материалы для изобразительного творчеств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7600" indent="-327600">
              <a:lnSpc>
                <a:spcPct val="9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музыкальные игрушк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7600" indent="-327600">
              <a:lnSpc>
                <a:spcPct val="9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книги для дет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7600" indent="-327600">
              <a:lnSpc>
                <a:spcPct val="9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фонотек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7600" indent="-327600">
              <a:lnSpc>
                <a:spcPct val="9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видеотек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7600" indent="-327600">
              <a:lnSpc>
                <a:spcPct val="9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компьютерные игр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7600" indent="-327600">
              <a:lnSpc>
                <a:spcPct val="9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книги для родител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7600" indent="-327600">
              <a:lnSpc>
                <a:spcPct val="9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средства для развития невербальной коммуникац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7600" indent="-327600">
              <a:lnSpc>
                <a:spcPct val="9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выставка самодельных игрушек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7600" indent="-327600">
              <a:lnSpc>
                <a:spcPct val="9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специальное оборудование для слепых детей и детей со сложным дефект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5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DejaVu Sans"/>
              </a:rPr>
              <a:t>Группа развития «Особый ребенок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0">
              <a:lnSpc>
                <a:spcPct val="98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Цель </a:t>
            </a: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2000" spc="-1" strike="noStrike">
                <a:solidFill>
                  <a:srgbClr val="000000"/>
                </a:solidFill>
                <a:latin typeface="DejaVu Sans"/>
              </a:rPr>
              <a:t>оказание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DejaVu Sans"/>
              </a:rPr>
              <a:t>детям – инвалидам</a:t>
            </a:r>
            <a:r>
              <a:rPr b="0" lang="ru-RU" sz="2000" spc="-1" strike="noStrike">
                <a:solidFill>
                  <a:srgbClr val="000000"/>
                </a:solidFill>
                <a:latin typeface="DejaVu San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DejaVu Sans"/>
              </a:rPr>
              <a:t>в возрасте от 3 месяцев до 7 лет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DejaVu Sans"/>
              </a:rPr>
              <a:t>систематической </a:t>
            </a:r>
            <a:r>
              <a:rPr b="0" lang="en-GB" sz="2000" spc="-1" strike="noStrike">
                <a:solidFill>
                  <a:srgbClr val="000000"/>
                </a:solidFill>
                <a:latin typeface="DejaVu Sans"/>
              </a:rPr>
              <a:t>психолого-медико-педагогической помощи, формирование предпосылок учебной деятельности, социальной </a:t>
            </a:r>
            <a:r>
              <a:rPr b="0" lang="ru-RU" sz="2000" spc="-1" strike="noStrike">
                <a:solidFill>
                  <a:srgbClr val="000000"/>
                </a:solidFill>
                <a:latin typeface="DejaVu Sans"/>
              </a:rPr>
              <a:t>адаптации детей-инвалидов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группе сверстников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без индивидуального сопровождения взрослого</a:t>
            </a:r>
            <a:r>
              <a:rPr b="0" lang="en-GB" sz="2000" spc="-1" strike="noStrike">
                <a:solidFill>
                  <a:srgbClr val="000000"/>
                </a:solidFill>
                <a:latin typeface="DejaVu Sans"/>
              </a:rPr>
              <a:t>, содействие родителям в организации воспитания и обучения </a:t>
            </a:r>
            <a:r>
              <a:rPr b="0" lang="ru-RU" sz="2000" spc="-1" strike="noStrike">
                <a:solidFill>
                  <a:srgbClr val="000000"/>
                </a:solidFill>
                <a:latin typeface="DejaVu Sans"/>
              </a:rPr>
              <a:t>детей</a:t>
            </a:r>
            <a:r>
              <a:rPr b="0" lang="en-GB" sz="2000" spc="-1" strike="noStrike">
                <a:solidFill>
                  <a:srgbClr val="000000"/>
                </a:solidFill>
                <a:latin typeface="DejaVu San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lnSpc>
                <a:spcPct val="98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DejaVu Sans"/>
              </a:rPr>
              <a:t>Содержание деятельности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73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ведение коррекционно-развивающих групповых и индивидуальных занятий, направленных на развитие коммуникативной, познавательной и иных сфер с целью максимальной социально-эмоциональной адаптации ребенка в среде сверстник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73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готовка ребенка с ОВЗ к включению в инклюзивную групп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73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ведение консультативной работы с родител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82249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нклюзивная группа ДО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000" y="1052640"/>
            <a:ext cx="8224920" cy="51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73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вместное воспитание и образование здоровых детей и детей с ограниченными возможностями здоровь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lnSpc>
                <a:spcPct val="7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73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держание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73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уществление развивающей деятельности (развитие речи и представлений об окружающем мире, развитие познавательной сферы, игровой, исследовательской, проектной, графической, конструктивной деятельности и т.д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73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циализация в условиях совместного обучения и воспитания детей с ОВЗ и обычно развивающихся сверстник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73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ализация коррекционной деятельности специалистов (учитель-логопед, учитель-дефектолог, педагог-психолог, массажист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73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ализация программ творческого развития детей (керамическая мастерская, хореография, музыкально-ритмические занятия, игротерапия и др.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лушатель курсов</dc:creator>
  <dc:description/>
  <dc:language>en-US</dc:language>
  <cp:lastModifiedBy>user</cp:lastModifiedBy>
  <dcterms:modified xsi:type="dcterms:W3CDTF">2014-09-30T08:45:32Z</dcterms:modified>
  <cp:revision>2</cp:revision>
  <dc:subject/>
  <dc:title>Основные направления работы педагогического коллектива ДОУ, реа</dc:title>
</cp:coreProperties>
</file>